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6.gif" ContentType="image/gif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5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B23-3032-4767-8668-E1346212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34B-F49E-4AE9-9337-73228A4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C69-3A50-444A-AA34-3AB84FEE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4CE-25A0-4E25-B4E0-E3CAD51A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BAED-3E64-4125-AD9F-B4CEFB7F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4E97-D4FF-4FD5-B368-C480550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8E6-1F94-42F7-B8C3-7FCA0D2B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CECE-A501-43A2-ABA4-B973471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07A-1B3F-46B4-AB4A-AD055B54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F50D-7360-42A7-9084-ABAA840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0D1-4505-4DCF-B67A-92BF91E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E6E-851E-46F1-953F-29326A5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86E6-78CD-40D2-8FC9-3817790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B8F9-4EF6-4C9F-B8E6-9CFE609A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533-BDCA-4234-9577-7611AFE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ECE-112A-46C2-8BFE-65C0124D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1F3C-B9F3-44DC-8439-97CDE9AD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61F-969F-409D-B34B-2DB71EFA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EF4-CCCE-4456-AFC7-7239308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81B-2614-4B59-BEAA-7EDD4A86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E11-1070-463E-AC60-57A31D9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A14-EDEE-444D-91FA-7F835A3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E2B-15D9-432B-9FFB-292B1FAC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539-3741-47D8-A610-A85C06D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1AB-8E35-424E-A7D6-A8B8BE69DB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E4E0-5439-4888-BE87-E16DFE864D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hyperlink" Target="http://smiles.33b.ru/smile.45128.html" TargetMode="External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miles.33b.ru/smile.46430.html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2590920"/>
            <a:ext cx="6461280" cy="228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Библиотерапия</a:t>
            </a:r>
            <a:br>
              <a:rPr sz="60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лайд-альбо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00040" y="5638320"/>
            <a:ext cx="34290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нинск-Кузнецки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1219320"/>
            <a:ext cx="2895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. С. Бол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1880" y="228600"/>
            <a:ext cx="544680" cy="762120"/>
          </a:xfrm>
          <a:prstGeom prst="rect">
            <a:avLst/>
          </a:prstGeom>
          <a:ln w="9360">
            <a:solidFill>
              <a:srgbClr val="ffef66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9308600">
            <a:off x="4191120" y="609120"/>
            <a:ext cx="28270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57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куще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11600">
            <a:off x="4571640" y="2209680"/>
            <a:ext cx="3086280" cy="1219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омо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о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895200">
            <a:off x="1447560" y="1371240"/>
            <a:ext cx="3154320" cy="11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72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прежда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ак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286000"/>
            <a:ext cx="228600" cy="274320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341800">
            <a:off x="4647960" y="4114800"/>
            <a:ext cx="2874960" cy="9018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b200"/>
              </a:gs>
              <a:gs pos="100000">
                <a:srgbClr val="ccffcc"/>
              </a:gs>
            </a:gsLst>
            <a:lin ang="147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циональное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164600">
            <a:off x="1828800" y="3733560"/>
            <a:ext cx="3243240" cy="1218960"/>
          </a:xfrm>
          <a:prstGeom prst="ellipse">
            <a:avLst/>
          </a:prstGeom>
          <a:gradFill rotWithShape="0">
            <a:gsLst>
              <a:gs pos="0">
                <a:srgbClr val="00b200"/>
              </a:gs>
              <a:gs pos="50000">
                <a:srgbClr val="ccffcc"/>
              </a:gs>
              <a:gs pos="100000">
                <a:srgbClr val="00b200"/>
              </a:gs>
            </a:gsLst>
            <a:lin ang="69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 зна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ниги   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ьз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5257800"/>
            <a:ext cx="5029200" cy="723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43200" y="5562720"/>
            <a:ext cx="45720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правления рекомендательной лит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3976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976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3976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3976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976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3976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иды текстов используемых библиотерапевт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ксты обычные (ограничений нет)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юбые литературные жанры: романы, эпические и драматические произведения, рассказы, поэзия больших и малых форм, детская и юмористическая литерату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ифы, притчи, сказк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форизм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троты, анекд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учно-популярные произвед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муары, биографический и автобиографическ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н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ксты обычные, но адаптированны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трывки из произведений, подготовленные для терапевтических цел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ксты специально созданные для терапевтических цел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литв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79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говоры (оберег; присушки; отсушки; лечебные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79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социальные»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179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стро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58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ажно в библиотерап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комендация и распространение книг о значении книги, о ее культурной и эстетической ценности, о пользе чт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учение пользователей библиотеки умениям и навыкам рационального чт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ратегия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иблиотерапевтической работ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211" name="_s174094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174093"/>
            <p:cNvCxnSpPr>
              <a:stCxn id="215" idx="0"/>
              <a:endCxn id="213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74092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2820960" y="230976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3" name="_s174088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организован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обществ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группы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74089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библиотеч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акти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74090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74091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ласс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оллекти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4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ласс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оллекти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276720" y="4038480"/>
            <a:ext cx="2514600" cy="14637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тско-юнош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ратегия библиотерапевтической работы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222" name="_s172046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172045"/>
            <p:cNvCxnSpPr>
              <a:stCxn id="226" idx="0"/>
              <a:endCxn id="224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172044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820960" y="230976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172040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рофилак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через СМИ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72041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шко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газ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«Солнеч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каламбур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72042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радиоузе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72043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изд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деяте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школь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библиоте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апы реализации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амосовершенствова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переподготовка кадров, тема самобразова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знакомление с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хнологиями библиотерапии, сказкотерапии, арттерапи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чтение-изуч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изведений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терапевтической точки зр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472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этап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готовка библиотерапевт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457200"/>
            <a:ext cx="4660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а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16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пределение проблемы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улирование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цели и задач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иблиотерапевтического воздействия на читател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ординац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вместных действий психолога, социального педагога, библиотекаря и классного руководител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5720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апы реализации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моподготовка библиотерапев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ление списков литератур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ециальная переработка литературы с точки зрения воздействия на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кретного читател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хема библиотерапевтической метод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.И.О. библиотерапевта_____________________________________________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 _______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я, должность, место работы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есто проведения  библиотерапевтического мероприятия (библиотека, школа, больница) 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; возраст; класс; вид учебного (лечебного) учреждения, который посещает испытуемый(ые); диагноз; количество испытуемых (читателей), участвующих в мероприятии_________________________________________.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пользуемое произведение (автор (переводчик), название)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презентуется книга как единое целое или ее отдельные элементы (например, иллюстрации), указать полные выходные данные издания (художник-иллюстратор и пр.)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пользовались ли аудиовизуальные материалы; какие именно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, задачи мероприятия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чина, по которой было отобрано именно это произведение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уть методики (ход мероприятия: деятельность библиотерапевта и деятельность испытуемых (пациентов)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елась ли работа с родителями (семьей) участников мероприятия; роль родителей в мероприятии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еакции участников в ходе мероприятия; их отзывы после него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даленные последствия библиотерапевтического мероприятия (цикла мероприятий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) по наблюдениям и результатам тестирования библиотерапевта и других экспертов;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по отзывам самих участников мероприятия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7144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полнительные замечания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ключение библиотерапи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комплексную программу коррекционной педагогик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собствует формированию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у детей поведенческих реакций и духовных ценностей, присущих российскому сообществу (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брота, понимание, милосердие, добротворчество, патриотизм, сопереживание, любовь к ближнем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133360"/>
            <a:ext cx="7543800" cy="297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«Есть не меньшие чудеса: улыбки, веселье, прощение и вовремя сказанное, нужное слово. Владеть этим – значит владеть всем».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86000" y="5866920"/>
            <a:ext cx="59817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А.Грин «Алые паруса»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етодическая литерату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 rot="451800">
            <a:off x="7010280" y="2209320"/>
            <a:ext cx="159732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1870200" cy="2743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1865160" cy="2666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 rot="4749600">
            <a:off x="133920" y="2304000"/>
            <a:ext cx="2666880" cy="1868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3505320" y="3962520"/>
            <a:ext cx="1746000" cy="2743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5867280" y="3962520"/>
            <a:ext cx="1671840" cy="2590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 rot="5049000">
            <a:off x="723240" y="4228920"/>
            <a:ext cx="2740320" cy="1901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04920"/>
            <a:ext cx="754380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блиотерапия: Задачи, подходы, методика [Текст] : сборник статей / сост. О. Л. Кабачек. – М.: БМЦ, 2001. – 128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услаева, Т. Метод сказкотерапии в библиотеке [Текст] / Т. Буслаева // Школьная библиотека. – 2001. - № 6. – С. 32-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ьдес Одриосола, М. С. Арттерапия в работе с подростками. Психотерапевтические виды художественной деятельности [Текст] : метод. пособие / М. С. Вальдес Одриосола. – М.: Гуманитар. изд. центр ВЛАДОС, 2005. – 63 с. – (Серия «Развитие и коррекци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омова, О. К. Типичные модели школьных библиотек [Текст] / О.К. Громова. – М.: Чистые пруды, 2006. – 32 с. – (Библиотечка «Первого сентября», серия «Библиотека в школе». Вып. 5(11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ешер, Ю. Библиотерапия: теория и практика [Текст] / Ю. Дрешер. – Библиотека в школе. – 2002. - № 13(73). – 1-15 июля. – 46 с. – (Приложение к газете «Первое сентября», вкладка «Книжка в книжке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ешер, Ю. Н. Книга лечит! [Текст] / Ю. Н. Дрешер // Мир библиографии. – 1999. - № 4. –С.15-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ешер, Ю. Н. Кого и как лечит книга: Современное состояние библиотерапии за рубежом [Текст] / Ю. Н. Дрешер // Библиотека. – 1999. - №3. – С. 68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ьцова-Стрелкова, В. Вместе с таблеткой – доброе слово [Текст] / В. Ельцова-Стрелкова // Библиотека. – 2002. - № 5. – С. 77-7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очная школа школьного библиотекаря [Текст] :  сборник лекций. – М.: Школьная библиотека, 2003. – 264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аринова, Н. Информацией можно отравиться [Текст] / Н. Казаринова // Библиотека. – 1997. - № 2. – С. 54-5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бачек, О. Коррекционная педагогика: что она может дать детям [Текст] / О. Кабачек // Библиотека. – 1999. - № 4. – С.83-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бачек, О. Библиотерапия как она есть [Текст] / О. Кабачек // Школьная библиотека. – 2000. - № 3. – С. 44-47; № 6. – С. 14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бачек, О. Коррекционная педагогика: что она может дать детям [Текст] / О. Кабачек // Школьная библиотека. – 2004. - № 2. – С. 31-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аринова, Е. Центр психологической защиты личности [Текст] / Е. Казаринова, Н. Соколова // Библиотека. – 1999. - № 6. – С. 47-4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емер, Т. Хорошая книга – тоже лекарство: Библиотерапия для всех [Текст] / Т. Кемер // Библиотека. – 1999. - № 4. – С. 2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533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533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80880"/>
            <a:ext cx="800100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стерина, Т.К. Мы должны жить рядом: библиотека и социализация детей с ограниченными возможностями [Текст] / Т. К. Костерина, Е. В. Петрова // Библиотека. – 2002. - № 4. – С. 46-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люшина, Н. Душу исцелит добро [Текст] / Н. Клюшина // Библиотека. – 1994. – № 2. - С.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едагогика здоровья. – М.: «Педагогика-Пресс», 1992. – 288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хожан, А. Психология неудачника [Текст] : тренинг уверенности в себе / А. Прихожан. – М., 1997. – (Практическая психолог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ическая энциклопедия [Текст] / под ред. Р. Корсини, А. Ау Эрбаха. – 2-е изд. – СПб.: Питер, 2003. – С. 57, 9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а развития школы на 2006-2008 г. – Ленинск-Кузнецкий: МОУ «Средняя общеобразовательная школа № 19»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рушая барьеры: Идея толерантного взаимодействия детей-инвалидов, молодых инвалидов и общества [Текст] : материалы публичной дискуссии / ЦГБ им. Н.В. Гоголя, БИЦ для инвалидов «Крылья». – Новокузнецк. – 2002. – 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ловарь практического психолога [Текст] / сост. С.Ю. Головин. – Минск: Харвест, М.: ООО «Издательство АСТ», 2001. – 8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ые технологи сохранения и укрепления здоровья детей [Текст] : учебное пособие / под общей ред. Н. В. Сократова. – М.: Торговый центр «Сфера», 2005. – 21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имонов, Б.А. О библиотерапии [Текст] / Б. А. Симонов // Библиотековедение. – 1999. - № 6. – С. 38-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лешева, Е. Творим добро сегодня и сейчас [Текст] / Е. Телешова // Библиотека. – 2002. - № 4. – С. 37-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мофеев, А. Лечит… слово [Текст] : о первом международном семинаре по библиотерапии / А. Тимофеев // Библиотека. – 2000. - № 4. – С. 37-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хомирова, Н. Жизнь сердца и разума [Текст] / Н. Тихомирова // Библиотека. – 1997. - № 1. – С. 50-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хомирова, Н. Методический словарь-справочник для библиотекарей «Психология детского чтения от А до Я» [Текст] / Н. Тихомирова // Школьная библиотека. – 2003. - № 6. – С. 65-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рофимова, Р. А. Библиотерапевтический эксперимент в селах Алтайского края [Текст] : некоторые итоги / Р. А. Трофимова // Библиотековедение. – 2002. – № 5. – С. 63-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2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вяжитесь с нами по адресу: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240" y="28195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52509, Кемеровская облас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. Ленинск-Кузнецки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сной городок, 31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У «Основна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еобразовательная школа № 19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л. почта: 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Mousckool_19@mail.r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ши сайты: 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ttp://www.Shkola.lenkuz.ru</a:t>
            </a:r>
            <a:r>
              <a:rPr b="0" lang="e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aniabolotowa.narod.ru 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 (38456) 3-76-5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11480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47560" y="1828800"/>
            <a:ext cx="64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лотова, Т. С. Библиотерап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лектронный ресур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: слайд-альбом /  МОУ «ООШ № 19» ; Т. С. Болотова. – Ленинск-Кузнецкий, 2011. – 24 слайд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ехнический редактор: Т.С. Болотов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4495680"/>
            <a:ext cx="2971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5486400"/>
            <a:ext cx="4572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игинал-макет подготовлен на компьютерном комплексе МОУ «Основная общеобразовательная школа № 19», 201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0720" y="2361960"/>
            <a:ext cx="5715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Библиотерапия </a:t>
            </a:r>
            <a:br>
              <a:rPr sz="5400"/>
            </a:b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айд-альб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56272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енинск-Кузнецк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1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266840" cy="180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19320" y="5335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У «Основная общеобразовательная школа № 19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1371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ББК 88.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Б 7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ова, Т. С. Библиотерап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: слайд-альбом. – 2-е из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  МОУ «ООШ № 19» ; Т. С. Болотова. – Ленинск-Кузнецкий, 2011. – 24 с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Татьяна Степановна Болотова, заведующая библиотекой МОУ «Средняя общеобразовательная школа № 19»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ическое пособие представлено в виде слайд-альбома. Схематично сгруппированная информация  позволяет в доступной форме познакомится с одним из  методов руководства чтением – библитерапией. В альбоме представлены списки литературы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ое пособие готово к распечатыванию и брошюрованию, но возможно его применение и в виде электронной презентации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адресовано школьным библиотекарям, школьных психологам, социальным педагогам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№ 19», 200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У «Основная общеобразовательная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№ 19», 201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блиотерапия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therapy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рмин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библиотерап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производным от двух греческих слов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blion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(книга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apeia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(лечение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и используется для обозначения формы поддерживающей психотерапии. В настоящее время под библиотерапией понимается применение всех литературных жанров в терапевтическом процессе, включая опубликованный, неопубликованный и аудиовизуальный материа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блиотерапия иногда проводится в индивидуальном порядке. Однако обычно она практикуется в групповой форме в больницах, воспитательных, геронтологических, психологических и коррекционных центр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териалы библиотерапии могут быть мощным и динамичным средством пробуждения неизвестных ранее чувств и прояснения неразрешенных конфликтов. Выбор материала для чтения зависит от целей информационное или удовлетворение эмоциональных потребностей. Особенно эффективен, когда согласуется с уровнем чувствования и понимания конкретного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фера применения библиотерапии расширяется, и, благодаря свое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щению к нормам, этике и тренингу, библиотерап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учает все большее признание как терапевтическо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редств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. Лерне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рапия поэзи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ерапия поэзи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это инструмент, который может быть взят на вооружение каждой школой психотерапии. Добавление поэзии к терапии не меняет истинную природу ни той, ни другой.  Включаться в терапевтический процесс могут лица с любыми диагнозами – от легких нарушений – до шизофрении. Однако, больным с грубыми расстройствами этот метод скорее противопоказан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 Лерн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значение библиотерап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990720"/>
            <a:ext cx="27432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иблио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981080"/>
            <a:ext cx="297180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целенаправ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981080"/>
            <a:ext cx="266688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направ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00040" y="16002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16002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343400"/>
            <a:ext cx="7162560" cy="1981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уждает подавленную волю к выздоров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авляет от одино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яет нарушенные социальные конт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ует стойкий интерес к чт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яет жизненные стереот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5053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257800" y="3429000"/>
            <a:ext cx="137160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819520"/>
            <a:ext cx="32767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2160"/>
                <a:tab algn="l" pos="18252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нять настро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2160"/>
                <a:tab algn="l" pos="18252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лечь от навязчивых мыслей о боле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819520"/>
            <a:ext cx="358128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силы воли, оптимиз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тверждение веры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43828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23623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ы психотерапевтической коррекции личности в различных критических ситуациях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ецептур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оррекция определенного диагноза с учетом природы заболевания с помощью специальной литератур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тивационны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изменение состояния за счет мобилизации духовных си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едагогически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развитие духовного мира личности, формирование оптимистического видения мира, развитие заинтересованности и потребности в чтении, формирование навыка самостоятельного поиска решения своих проблем в процессе чтения, развитие творческого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мовыра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686880" y="762120"/>
            <a:ext cx="7618320" cy="5179680"/>
            <a:chOff x="686880" y="762120"/>
            <a:chExt cx="7618320" cy="5179680"/>
          </a:xfrm>
        </p:grpSpPr>
        <p:cxnSp>
          <p:nvCxnSpPr>
            <p:cNvPr id="183" name="_s176142"/>
            <p:cNvCxnSpPr>
              <a:stCxn id="184" idx="0"/>
              <a:endCxn id="185" idx="2"/>
            </p:cNvCxnSpPr>
            <p:nvPr/>
          </p:nvCxnSpPr>
          <p:spPr>
            <a:xfrm flipV="1" rot="16200000">
              <a:off x="5324400" y="2043000"/>
              <a:ext cx="1036440" cy="2616480"/>
            </a:xfrm>
            <a:prstGeom prst="bentConnector3">
              <a:avLst>
                <a:gd name="adj1" fmla="val 110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176141"/>
            <p:cNvCxnSpPr>
              <a:stCxn id="187" idx="0"/>
              <a:endCxn id="185" idx="2"/>
            </p:cNvCxnSpPr>
            <p:nvPr/>
          </p:nvCxnSpPr>
          <p:spPr>
            <a:xfrm flipH="1" flipV="1" rot="5400000">
              <a:off x="3978000" y="3312360"/>
              <a:ext cx="1036440" cy="78120"/>
            </a:xfrm>
            <a:prstGeom prst="bentConnector3">
              <a:avLst>
                <a:gd name="adj1" fmla="val 110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76140"/>
            <p:cNvCxnSpPr>
              <a:stCxn id="189" idx="0"/>
              <a:endCxn id="185" idx="2"/>
            </p:cNvCxnSpPr>
            <p:nvPr/>
          </p:nvCxnSpPr>
          <p:spPr>
            <a:xfrm flipH="1" flipV="1" rot="5400000">
              <a:off x="2696760" y="1974600"/>
              <a:ext cx="979200" cy="2696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176136"/>
            <p:cNvSpPr/>
            <p:nvPr/>
          </p:nvSpPr>
          <p:spPr>
            <a:xfrm>
              <a:off x="1828080" y="762120"/>
              <a:ext cx="5411520" cy="20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e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рактические мет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библиотерап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76137"/>
            <p:cNvSpPr/>
            <p:nvPr/>
          </p:nvSpPr>
          <p:spPr>
            <a:xfrm>
              <a:off x="686880" y="3813120"/>
              <a:ext cx="2305800" cy="20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e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принцип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подбора книг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76138"/>
            <p:cNvSpPr/>
            <p:nvPr/>
          </p:nvSpPr>
          <p:spPr>
            <a:xfrm>
              <a:off x="3124080" y="3870000"/>
              <a:ext cx="2666160" cy="20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e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тип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используем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текс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76139"/>
            <p:cNvSpPr/>
            <p:nvPr/>
          </p:nvSpPr>
          <p:spPr>
            <a:xfrm>
              <a:off x="5996520" y="3870000"/>
              <a:ext cx="2308680" cy="20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ef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формиро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совмес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групп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15T11:53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